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936-7C7B-444C-AF92-7784E57E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A37-F948-44D3-A3F7-80A0104A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F0B-9367-42B5-91FF-7E835EF5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780-465F-4812-847F-AE7FF379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785-F864-4115-9CA9-8BC9C47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923-00C1-4D2F-84E3-0F1D55D3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82E-D339-466C-A7A8-6D14DB5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FC7-2510-4F9B-98EC-9A47CF2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254-60F7-434D-9107-6594C8F9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5A9-CE3B-4E31-B101-877ECEE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A5E-E715-4E56-9DC6-175D1A5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1E6-56C1-43E1-95E9-47EC9E5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08D8-2BF1-467B-9B10-54490DC60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редставление чисел в компьютере.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рямой, обратный и дополнительный к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0"/>
          <p:cNvGraphicFramePr/>
          <p:nvPr/>
        </p:nvGraphicFramePr>
        <p:xfrm>
          <a:off x="571680" y="3571920"/>
          <a:ext cx="281916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571920"/>
                    <a:ext cx="28191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11280" y="333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йдем дополнительный код десятичного числа 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-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357200" y="114300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айдем двоичную запись числа 47 ( прямой к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71720" y="178596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240"/>
                <a:gridCol w="446400"/>
                <a:gridCol w="446040"/>
                <a:gridCol w="444240"/>
                <a:gridCol w="4464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240"/>
                <a:gridCol w="4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59"/>
          <p:cNvSpPr/>
          <p:nvPr/>
        </p:nvSpPr>
        <p:spPr>
          <a:xfrm>
            <a:off x="1571760" y="29289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Инвертируем это число ( обратный к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00080" y="342900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115"/>
          <p:cNvSpPr/>
          <p:nvPr/>
        </p:nvSpPr>
        <p:spPr>
          <a:xfrm>
            <a:off x="1692360" y="4581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ибавим 1 к обратному коду и получим запись этого числа в оператив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0080" y="557208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69"/>
          <p:cNvSpPr/>
          <p:nvPr/>
        </p:nvSpPr>
        <p:spPr>
          <a:xfrm>
            <a:off x="500040" y="2858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адание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исать внутреннее представление следующих десятичных чисел, используя 8 – разрядную ячей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70"/>
          <p:cNvSpPr/>
          <p:nvPr/>
        </p:nvSpPr>
        <p:spPr>
          <a:xfrm>
            <a:off x="714240" y="100008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85880" y="1428840"/>
          <a:ext cx="3041640" cy="517320"/>
        </p:xfrm>
        <a:graphic>
          <a:graphicData uri="http://schemas.openxmlformats.org/drawingml/2006/table">
            <a:tbl>
              <a:tblPr/>
              <a:tblGrid>
                <a:gridCol w="379440"/>
                <a:gridCol w="380880"/>
                <a:gridCol w="379440"/>
                <a:gridCol w="380880"/>
                <a:gridCol w="379440"/>
                <a:gridCol w="381240"/>
                <a:gridCol w="379440"/>
                <a:gridCol w="380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370"/>
          <p:cNvSpPr/>
          <p:nvPr/>
        </p:nvSpPr>
        <p:spPr>
          <a:xfrm>
            <a:off x="714240" y="278604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120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4240" y="3357720"/>
          <a:ext cx="4624560" cy="1554120"/>
        </p:xfrm>
        <a:graphic>
          <a:graphicData uri="http://schemas.openxmlformats.org/drawingml/2006/table">
            <a:tbl>
              <a:tblPr/>
              <a:tblGrid>
                <a:gridCol w="2121120"/>
                <a:gridCol w="312480"/>
                <a:gridCol w="312840"/>
                <a:gridCol w="312840"/>
                <a:gridCol w="312840"/>
                <a:gridCol w="312480"/>
                <a:gridCol w="314280"/>
                <a:gridCol w="312840"/>
                <a:gridCol w="312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69"/>
          <p:cNvSpPr/>
          <p:nvPr/>
        </p:nvSpPr>
        <p:spPr>
          <a:xfrm>
            <a:off x="285840" y="2858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адание 2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запишутся в оперативной памяти компьютера следующие десятичные числа в 16-ти разрядной с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0"/>
          <p:cNvSpPr/>
          <p:nvPr/>
        </p:nvSpPr>
        <p:spPr>
          <a:xfrm>
            <a:off x="714240" y="100008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85880" y="1428840"/>
          <a:ext cx="6089760" cy="517320"/>
        </p:xfrm>
        <a:graphic>
          <a:graphicData uri="http://schemas.openxmlformats.org/drawingml/2006/table">
            <a:tbl>
              <a:tblPr/>
              <a:tblGrid>
                <a:gridCol w="379440"/>
                <a:gridCol w="380880"/>
                <a:gridCol w="379440"/>
                <a:gridCol w="380880"/>
                <a:gridCol w="379440"/>
                <a:gridCol w="381240"/>
                <a:gridCol w="3794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456"/>
          <p:cNvSpPr/>
          <p:nvPr/>
        </p:nvSpPr>
        <p:spPr>
          <a:xfrm>
            <a:off x="785880" y="2286000"/>
            <a:ext cx="122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85880" y="2786040"/>
          <a:ext cx="6089760" cy="517680"/>
        </p:xfrm>
        <a:graphic>
          <a:graphicData uri="http://schemas.openxmlformats.org/drawingml/2006/table">
            <a:tbl>
              <a:tblPr/>
              <a:tblGrid>
                <a:gridCol w="379440"/>
                <a:gridCol w="380880"/>
                <a:gridCol w="379440"/>
                <a:gridCol w="380880"/>
                <a:gridCol w="379440"/>
                <a:gridCol w="381240"/>
                <a:gridCol w="3794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93"/>
          <p:cNvSpPr/>
          <p:nvPr/>
        </p:nvSpPr>
        <p:spPr>
          <a:xfrm>
            <a:off x="785880" y="37148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17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4214880"/>
          <a:ext cx="7128000" cy="1554120"/>
        </p:xfrm>
        <a:graphic>
          <a:graphicData uri="http://schemas.openxmlformats.org/drawingml/2006/table">
            <a:tbl>
              <a:tblPr/>
              <a:tblGrid>
                <a:gridCol w="2121120"/>
                <a:gridCol w="312480"/>
                <a:gridCol w="312840"/>
                <a:gridCol w="312840"/>
                <a:gridCol w="312840"/>
                <a:gridCol w="312480"/>
                <a:gridCol w="314280"/>
                <a:gridCol w="312840"/>
                <a:gridCol w="312840"/>
                <a:gridCol w="312480"/>
                <a:gridCol w="312840"/>
                <a:gridCol w="312840"/>
                <a:gridCol w="312840"/>
                <a:gridCol w="314280"/>
                <a:gridCol w="312480"/>
                <a:gridCol w="312840"/>
                <a:gridCol w="312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428760" y="100008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1428840"/>
          <a:ext cx="7129440" cy="1554120"/>
        </p:xfrm>
        <a:graphic>
          <a:graphicData uri="http://schemas.openxmlformats.org/drawingml/2006/table">
            <a:tbl>
              <a:tblPr/>
              <a:tblGrid>
                <a:gridCol w="2120760"/>
                <a:gridCol w="312840"/>
                <a:gridCol w="312480"/>
                <a:gridCol w="314640"/>
                <a:gridCol w="312480"/>
                <a:gridCol w="312840"/>
                <a:gridCol w="312840"/>
                <a:gridCol w="312480"/>
                <a:gridCol w="314640"/>
                <a:gridCol w="312480"/>
                <a:gridCol w="312840"/>
                <a:gridCol w="312840"/>
                <a:gridCol w="312480"/>
                <a:gridCol w="312840"/>
                <a:gridCol w="314280"/>
                <a:gridCol w="312840"/>
                <a:gridCol w="312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330"/>
          <p:cNvSpPr/>
          <p:nvPr/>
        </p:nvSpPr>
        <p:spPr>
          <a:xfrm>
            <a:off x="428760" y="3286080"/>
            <a:ext cx="129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17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0040" y="3857760"/>
          <a:ext cx="7129440" cy="1554120"/>
        </p:xfrm>
        <a:graphic>
          <a:graphicData uri="http://schemas.openxmlformats.org/drawingml/2006/table">
            <a:tbl>
              <a:tblPr/>
              <a:tblGrid>
                <a:gridCol w="2120760"/>
                <a:gridCol w="312840"/>
                <a:gridCol w="312840"/>
                <a:gridCol w="314280"/>
                <a:gridCol w="312840"/>
                <a:gridCol w="312480"/>
                <a:gridCol w="312840"/>
                <a:gridCol w="312840"/>
                <a:gridCol w="314280"/>
                <a:gridCol w="312840"/>
                <a:gridCol w="312480"/>
                <a:gridCol w="312840"/>
                <a:gridCol w="312840"/>
                <a:gridCol w="312840"/>
                <a:gridCol w="314280"/>
                <a:gridCol w="312480"/>
                <a:gridCol w="312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й 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369"/>
          <p:cNvSpPr/>
          <p:nvPr/>
        </p:nvSpPr>
        <p:spPr>
          <a:xfrm>
            <a:off x="285840" y="2858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адание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запишутся в оперативной памяти компьютера следующие десятичные числа в 16-ти разрядной с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42920" y="2142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000080"/>
            <a:ext cx="892980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ние 1.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лучить внутреннее представление целого числа 123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1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в 8-разрядной ячейке памяти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ние 2.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лучить внутреннее представление цел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123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1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8-разрядной ячейке памяти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ние 3.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лучить внутреннее представление целого числа - 17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1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16 – ти разрядной ячейке памяти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1280" y="4365720"/>
          <a:ext cx="7921440" cy="71892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88920"/>
                <a:gridCol w="990720"/>
                <a:gridCol w="990720"/>
                <a:gridCol w="990360"/>
                <a:gridCol w="989280"/>
                <a:gridCol w="99036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Group 108"/>
          <p:cNvGrpSpPr/>
          <p:nvPr/>
        </p:nvGrpSpPr>
        <p:grpSpPr>
          <a:xfrm>
            <a:off x="900000" y="5157360"/>
            <a:ext cx="7200720" cy="1698120"/>
            <a:chOff x="900000" y="5157360"/>
            <a:chExt cx="7200720" cy="1698120"/>
          </a:xfrm>
        </p:grpSpPr>
        <p:sp>
          <p:nvSpPr>
            <p:cNvPr id="46" name="AutoShape 100"/>
            <p:cNvSpPr/>
            <p:nvPr/>
          </p:nvSpPr>
          <p:spPr>
            <a:xfrm rot="16200000">
              <a:off x="4212000" y="1845000"/>
              <a:ext cx="576360" cy="7200720"/>
            </a:xfrm>
            <a:custGeom>
              <a:avLst/>
              <a:gdLst>
                <a:gd name="textAreaLeft" fmla="*/ 368280 w 576360"/>
                <a:gd name="textAreaRight" fmla="*/ 576720 w 576360"/>
                <a:gd name="textAreaTop" fmla="*/ 187560 h 7200720"/>
                <a:gd name="textAreaBottom" fmla="*/ 7013160 h 72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82d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01"/>
            <p:cNvSpPr/>
            <p:nvPr/>
          </p:nvSpPr>
          <p:spPr>
            <a:xfrm>
              <a:off x="2857320" y="5786640"/>
              <a:ext cx="446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ячейка</a:t>
              </a:r>
              <a:r>
                <a:rPr b="1" i="1" lang="ru-RU" sz="3200" spc="-1" strike="noStrike">
                  <a:solidFill>
                    <a:srgbClr val="1f2039"/>
                  </a:solidFill>
                  <a:latin typeface="Monotype Corsiva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из </a:t>
              </a:r>
              <a:r>
                <a:rPr b="1" i="1" lang="en-US" sz="3200" spc="-1" strike="noStrike">
                  <a:solidFill>
                    <a:srgbClr val="e82d0e"/>
                  </a:solidFill>
                  <a:latin typeface="Monotype Corsiva"/>
                </a:rPr>
                <a:t>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разряд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06"/>
          <p:cNvSpPr/>
          <p:nvPr/>
        </p:nvSpPr>
        <p:spPr>
          <a:xfrm>
            <a:off x="1547640" y="3141720"/>
            <a:ext cx="208764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13689"/>
              <a:gd name="adj5" fmla="val 229023"/>
              <a:gd name="adj6" fmla="val -24106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2d0e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 -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7"/>
          <p:cNvSpPr/>
          <p:nvPr/>
        </p:nvSpPr>
        <p:spPr>
          <a:xfrm>
            <a:off x="5940360" y="3141720"/>
            <a:ext cx="144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27564"/>
              <a:gd name="adj5" fmla="val 229023"/>
              <a:gd name="adj6" fmla="val 150717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1"/>
          <p:cNvSpPr/>
          <p:nvPr/>
        </p:nvSpPr>
        <p:spPr>
          <a:xfrm>
            <a:off x="250920" y="64296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Ячейк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это часть памяти компьютера, вмещающ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 себя информацию, доступную для обрабо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отдельной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командой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роцесс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4365720"/>
          <a:ext cx="7921440" cy="71892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88920"/>
                <a:gridCol w="990720"/>
                <a:gridCol w="990720"/>
                <a:gridCol w="990360"/>
                <a:gridCol w="989280"/>
                <a:gridCol w="99036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" name="Group 23"/>
          <p:cNvGrpSpPr/>
          <p:nvPr/>
        </p:nvGrpSpPr>
        <p:grpSpPr>
          <a:xfrm>
            <a:off x="900000" y="5157360"/>
            <a:ext cx="7200720" cy="1698120"/>
            <a:chOff x="900000" y="5157360"/>
            <a:chExt cx="7200720" cy="1698120"/>
          </a:xfrm>
        </p:grpSpPr>
        <p:sp>
          <p:nvSpPr>
            <p:cNvPr id="53" name="AutoShape 24"/>
            <p:cNvSpPr/>
            <p:nvPr/>
          </p:nvSpPr>
          <p:spPr>
            <a:xfrm rot="16200000">
              <a:off x="4212000" y="1845000"/>
              <a:ext cx="576360" cy="7200720"/>
            </a:xfrm>
            <a:custGeom>
              <a:avLst/>
              <a:gdLst>
                <a:gd name="textAreaLeft" fmla="*/ 368280 w 576360"/>
                <a:gd name="textAreaRight" fmla="*/ 576720 w 576360"/>
                <a:gd name="textAreaTop" fmla="*/ 187560 h 7200720"/>
                <a:gd name="textAreaBottom" fmla="*/ 7013160 h 72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82d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5"/>
            <p:cNvSpPr/>
            <p:nvPr/>
          </p:nvSpPr>
          <p:spPr>
            <a:xfrm>
              <a:off x="2714400" y="5786640"/>
              <a:ext cx="446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ячейка</a:t>
              </a:r>
              <a:r>
                <a:rPr b="1" i="1" lang="ru-RU" sz="3200" spc="-1" strike="noStrike">
                  <a:solidFill>
                    <a:srgbClr val="1f2039"/>
                  </a:solidFill>
                  <a:latin typeface="Monotype Corsiva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из</a:t>
              </a:r>
              <a:r>
                <a:rPr b="1" i="1" lang="ru-RU" sz="3200" spc="-1" strike="noStrike">
                  <a:solidFill>
                    <a:srgbClr val="1f2039"/>
                  </a:solidFill>
                  <a:latin typeface="Monotype Corsiva"/>
                </a:rPr>
                <a:t> </a:t>
              </a:r>
              <a:r>
                <a:rPr b="1" i="1" lang="en-US" sz="3200" spc="-1" strike="noStrike">
                  <a:solidFill>
                    <a:srgbClr val="e82d0e"/>
                  </a:solidFill>
                  <a:latin typeface="Monotype Corsiva"/>
                </a:rPr>
                <a:t>n</a:t>
              </a:r>
              <a:r>
                <a:rPr b="1" i="1" lang="en-US" sz="3200" spc="-1" strike="noStrike">
                  <a:solidFill>
                    <a:srgbClr val="1f2039"/>
                  </a:solidFill>
                  <a:latin typeface="Monotype Corsiva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Monotype Corsiva"/>
                </a:rPr>
                <a:t>разряд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27"/>
          <p:cNvSpPr/>
          <p:nvPr/>
        </p:nvSpPr>
        <p:spPr>
          <a:xfrm>
            <a:off x="1547640" y="3141720"/>
            <a:ext cx="208764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13689"/>
              <a:gd name="adj5" fmla="val 229023"/>
              <a:gd name="adj6" fmla="val -24106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2d0e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 -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5940360" y="3141720"/>
            <a:ext cx="144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27564"/>
              <a:gd name="adj5" fmla="val 229023"/>
              <a:gd name="adj6" fmla="val 150717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42920" y="50004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одержимое ячейки памяти называется </a:t>
            </a: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машинным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словом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Ячейка памяти разделяется на </a:t>
            </a:r>
            <a:r>
              <a:rPr b="1" i="1" lang="ru-RU" sz="3200" spc="-1" strike="noStrike">
                <a:solidFill>
                  <a:srgbClr val="e82d0e"/>
                </a:solidFill>
                <a:latin typeface="Monotype Corsiva"/>
              </a:rPr>
              <a:t>разряды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, в каждом из которых хранится разряд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9"/>
          <p:cNvSpPr/>
          <p:nvPr/>
        </p:nvSpPr>
        <p:spPr>
          <a:xfrm>
            <a:off x="250920" y="14292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Бит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нглийского </a:t>
            </a:r>
            <a:r>
              <a:rPr b="1" lang="en-US" sz="3200" spc="-1" strike="noStrike">
                <a:solidFill>
                  <a:srgbClr val="e82d0e"/>
                </a:solidFill>
                <a:latin typeface="Monotype Corsiva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ary digi</a:t>
            </a:r>
            <a:r>
              <a:rPr b="1" lang="en-US" sz="3200" spc="-1" strike="noStrike">
                <a:solidFill>
                  <a:srgbClr val="e82d0e"/>
                </a:solidFill>
                <a:latin typeface="Monotype Corsiv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— двоичная цифра)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инимальная единица измерения информации. Каждый бит может принимать значение 0 ил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Битом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акже называют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разряд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ячейки памяти Э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8 бит = 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Байт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нглийского </a:t>
            </a:r>
            <a:r>
              <a:rPr b="1" lang="en-US" sz="3200" spc="-1" strike="noStrike">
                <a:solidFill>
                  <a:srgbClr val="e82d0e"/>
                </a:solidFill>
                <a:latin typeface="Monotype Corsiva"/>
              </a:rPr>
              <a:t>byte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лог)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часть машинного слова, состоящая из 8 бит, обрабатываемая в ЭВМ как одно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2960" y="4929120"/>
          <a:ext cx="7921440" cy="7192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89280"/>
                <a:gridCol w="990360"/>
                <a:gridCol w="990720"/>
                <a:gridCol w="990720"/>
                <a:gridCol w="988920"/>
                <a:gridCol w="9903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AutoShape 30"/>
          <p:cNvSpPr/>
          <p:nvPr/>
        </p:nvSpPr>
        <p:spPr>
          <a:xfrm>
            <a:off x="1571760" y="4071960"/>
            <a:ext cx="158436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15833"/>
              <a:gd name="adj5" fmla="val 171925"/>
              <a:gd name="adj6" fmla="val -27254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5857920" y="4143240"/>
            <a:ext cx="143964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27564"/>
              <a:gd name="adj5" fmla="val 157726"/>
              <a:gd name="adj6" fmla="val 150717"/>
            </a:avLst>
          </a:prstGeom>
          <a:solidFill>
            <a:srgbClr val="d3d6b8"/>
          </a:solidFill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2d0e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 rot="16200000">
            <a:off x="4384080" y="2331360"/>
            <a:ext cx="576000" cy="720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87560 h 7200720"/>
              <a:gd name="textAreaBottom" fmla="*/ 7013160 h 72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2731680" y="6215040"/>
            <a:ext cx="39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ячейка</a:t>
            </a:r>
            <a:r>
              <a:rPr b="1" i="1" lang="ru-RU" sz="2800" spc="-1" strike="noStrike">
                <a:solidFill>
                  <a:srgbClr val="1f2039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из</a:t>
            </a:r>
            <a:r>
              <a:rPr b="1" i="1" lang="ru-RU" sz="2800" spc="-1" strike="noStrike">
                <a:solidFill>
                  <a:srgbClr val="1f2039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8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ря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28800" y="5429160"/>
          <a:ext cx="7129440" cy="9367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0"/>
          <p:cNvSpPr/>
          <p:nvPr/>
        </p:nvSpPr>
        <p:spPr>
          <a:xfrm>
            <a:off x="1928880" y="4572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вый раз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3"/>
          <p:cNvSpPr/>
          <p:nvPr/>
        </p:nvSpPr>
        <p:spPr>
          <a:xfrm flipH="1">
            <a:off x="1143000" y="4786200"/>
            <a:ext cx="720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50920" y="2858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представления чисел в памяти компьютера используются два формата: </a:t>
            </a: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формат с фиксированной точко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</a:t>
            </a: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формат с плавающей точкой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формате с фиксированной точкой представляются только целые числа, в формате с плавающей точкой – вещественные числа (целые и дробны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Целые числа могут представляться в компьютере со знаком или без зн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Monotype Corsiva"/>
              </a:rPr>
              <a:t>Целые числа без знака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ычно занимают в памяти один или два б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Monotype Corsiva"/>
              </a:rPr>
              <a:t>Целые числа со знаком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ычно занимают в памяти компьютера один, два или четыре байта, при этом самый левый (старший) разряд содержит информацию о знаке числа. Знак "плюс" кодируется нулем, а "минус" - един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85840" y="357120"/>
            <a:ext cx="86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ЭВМ в целях упрощения выполнения арифметических операций применяю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специальные коды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представления</a:t>
            </a:r>
            <a:r>
              <a:rPr b="0" lang="ru-RU" sz="3200" spc="-1" strike="noStrike">
                <a:solidFill>
                  <a:srgbClr val="1f203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целых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3784680" y="2522520"/>
            <a:ext cx="41720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083"/>
              <a:gd name="adj5" fmla="val -106250"/>
              <a:gd name="adj6" fmla="val -32916"/>
            </a:avLst>
          </a:prstGeom>
          <a:solidFill>
            <a:srgbClr val="d3d6b8"/>
          </a:solidFill>
          <a:ln w="3816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ой код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780000" y="3819600"/>
            <a:ext cx="453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699"/>
              <a:gd name="adj5" fmla="val -319009"/>
              <a:gd name="adj6" fmla="val -38416"/>
            </a:avLst>
          </a:prstGeom>
          <a:solidFill>
            <a:srgbClr val="d3d6b8"/>
          </a:solidFill>
          <a:ln w="3816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ный код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711600" y="5186520"/>
            <a:ext cx="48927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2064"/>
              <a:gd name="adj5" fmla="val -540884"/>
              <a:gd name="adj6" fmla="val -43347"/>
            </a:avLst>
          </a:prstGeom>
          <a:solidFill>
            <a:srgbClr val="d3d6b8"/>
          </a:solidFill>
          <a:ln w="38160">
            <a:solidFill>
              <a:srgbClr val="e82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полнительный код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00080" y="500076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000080" y="500076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"/>
          <p:cNvSpPr/>
          <p:nvPr/>
        </p:nvSpPr>
        <p:spPr>
          <a:xfrm>
            <a:off x="285840" y="357120"/>
            <a:ext cx="860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Прямой код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– это представление числа в двоичной системе счисления, при этом первый разряд отводится под знак числа. Если число положительное, то в первом разряде находится 0, если число отрицательное, в первом разряде указывается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ложительное десятичное число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предста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3"/>
          <p:cNvSpPr/>
          <p:nvPr/>
        </p:nvSpPr>
        <p:spPr>
          <a:xfrm flipH="1">
            <a:off x="1285920" y="4357800"/>
            <a:ext cx="72072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071800" y="4071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42920" y="465300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042920" y="465300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2920" y="4653000"/>
          <a:ext cx="7129440" cy="94932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  <a:gridCol w="446040"/>
                <a:gridCol w="444600"/>
                <a:gridCol w="446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Прямоугольник 9"/>
          <p:cNvSpPr/>
          <p:nvPr/>
        </p:nvSpPr>
        <p:spPr>
          <a:xfrm>
            <a:off x="285840" y="285840"/>
            <a:ext cx="86439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братный код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положительного числа в двоичной системе счисления совпадает с прямым кодом. Для отрицательного числ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се цифры числа заменяются на противоположные (1 на 0, 0 на 1), а в знаковый разряд заносится един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рицательное десятичное число 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-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предста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143080" y="3714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3"/>
          <p:cNvSpPr/>
          <p:nvPr/>
        </p:nvSpPr>
        <p:spPr>
          <a:xfrm flipH="1">
            <a:off x="1285920" y="4000680"/>
            <a:ext cx="72072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42920" y="21420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Дополнительный код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пользуют в основном для представления в компьютере отрицательных чис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5001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Алгоритм получения дополнительного кода для отрицате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57120" y="28576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. Найти прямой код числа ( перевести число в двоичную систему счисления число без зна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28760" y="407196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Получить обратный код. Поменять каждый ноль на единицу, а единицу на ноль ( инвертировать чис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-105480" y="542916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К обратному коду прибавить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43:41Z</dcterms:created>
  <dc:creator>Света</dc:creator>
  <dc:description/>
  <dc:language>en-US</dc:language>
  <cp:lastModifiedBy>Ирина Тохтамышева</cp:lastModifiedBy>
  <dcterms:modified xsi:type="dcterms:W3CDTF">2021-01-19T19:23:12Z</dcterms:modified>
  <cp:revision>49</cp:revision>
  <dc:subject/>
  <dc:title>Слайд 1</dc:title>
</cp:coreProperties>
</file>